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687-D1F5-42F4-8A6F-F4097474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F65-E6F8-4334-BDBC-44490438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EECF-EEB0-4DC7-A684-60720FEB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413-BAAC-4092-BA28-A4B146E9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95B-74F1-4097-99EB-14B5A2CC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873-6622-423C-8DD5-8039D1C2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AC4-680F-4444-8A44-74728BA5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2C6-8DEC-47EC-92A4-02351BA6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001-7AD5-4FBA-BED7-B99AA950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F0C-DDB5-4734-818E-8FDEE843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A30-92B4-4416-A618-FD15973D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354-4FC2-4B78-950E-AB3F6E77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3F45-EE68-4527-A5C5-87DF4C350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Goudy Stout"/>
              </a:rPr>
              <a:t>Reactants 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Stout"/>
              </a:rPr>
              <a:t>Mo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Stout"/>
              </a:rPr>
              <a:t>Shan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Stout"/>
              </a:rPr>
              <a:t>M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The Results are I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181480" y="2895480"/>
            <a:ext cx="34387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When the two reactants 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combined, a yellow 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precipitate was formed.   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5715000"/>
            <a:ext cx="4114800" cy="79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doni MT Black"/>
              </a:rPr>
              <a:t>Click Above To See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Cooper Black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oper Black"/>
              </a:rPr>
              <a:t>   </a:t>
            </a:r>
            <a:r>
              <a:rPr b="0" lang="en-US" sz="2800" spc="-1" strike="noStrike">
                <a:solidFill>
                  <a:srgbClr val="009999"/>
                </a:solidFill>
                <a:latin typeface="Cooper Black"/>
              </a:rPr>
              <a:t>The purpose of this lab was to compare the mass of reactants and the mass of the products of the chemical rea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266688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267080"/>
            <a:ext cx="9296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oper Black"/>
              </a:rPr>
              <a:t>   </a:t>
            </a:r>
            <a:r>
              <a:rPr b="0" lang="en-US" sz="3200" spc="-1" strike="noStrike">
                <a:solidFill>
                  <a:srgbClr val="009999"/>
                </a:solidFill>
                <a:latin typeface="Cooper Black"/>
              </a:rPr>
              <a:t>The product of the two chemical reactants will equal the mass of one reactant + the mass of the other reactant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Cooper Black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90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2600" y="3505320"/>
            <a:ext cx="2266920" cy="302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562720" y="40384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43200" y="495288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2286000"/>
            <a:ext cx="99036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248520" y="3581280"/>
            <a:ext cx="0" cy="609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343400" y="1981080"/>
            <a:ext cx="3809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riple Beam Balance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429000" y="4419720"/>
            <a:ext cx="20383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est Tubes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nd Beaker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410080" y="3048120"/>
            <a:ext cx="17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actants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Ou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8127" t="33001" r="28127" b="35004"/>
          <a:stretch/>
        </p:blipFill>
        <p:spPr>
          <a:xfrm>
            <a:off x="0" y="1600200"/>
            <a:ext cx="9144000" cy="4179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124080" y="2514600"/>
            <a:ext cx="82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latin typeface="Times New Roman"/>
              </a:rPr>
              <a:t>+0.1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6:36:26Z</dcterms:created>
  <dc:creator>default</dc:creator>
  <dc:description/>
  <dc:language>en-US</dc:language>
  <cp:lastModifiedBy>claguna</cp:lastModifiedBy>
  <dcterms:modified xsi:type="dcterms:W3CDTF">2008-05-29T18:41:43Z</dcterms:modified>
  <cp:revision>12</cp:revision>
  <dc:subject/>
  <dc:title>Slide 1</dc:title>
</cp:coreProperties>
</file>